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07F-FBBD-458A-A4FD-EC255AB8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D18-0118-4658-B7BC-1A7EF7D3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CC3-D5CF-4332-95A0-DEB667DC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AF4C-1905-432A-B04A-8B5F51F6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13DD-DC57-4D53-AE42-BBCCDFDC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47A9-552C-4C60-A2B8-D5C63A7C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956F-BE9B-4D1F-8118-10087A28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670E-FB48-4521-AA42-5A3E46A2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958F-1D2D-4111-8F2D-BF12D674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CC24-1A29-464A-891D-EB890EDF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6990-9819-4803-BBDF-9B74BF75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3DA-FE47-4109-823B-767A3BD8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7B5C-C5EB-4B51-85FD-94946D4C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4807-6479-4F89-97B6-A43E7430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AA99-FA1F-4D54-A8DB-7ABBEFFD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B332-D751-46EE-810E-DCB8649C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AE86-6D2F-42B6-AEA2-D0EF8864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947-3D59-4EB2-BB3A-8C923D24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D37-CAE5-4D00-97CB-2A0656E5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C7A-B2F3-41CD-8873-25DEB6A2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10B-338A-4D4B-A0D7-B1E546EE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6AE7-F4A5-4B6B-8F28-6EC4EF85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810-BA3E-4B45-8D25-96D76D72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428-4670-4400-9837-C2D98C3B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323B-D3B7-47F7-806D-A14C412F32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6619-5CC2-44AF-8761-92E8F6CEC8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НЕТРАДИЦИОННЫЕ СПОСОБЫ РИСОВАНИЯ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ранов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удентка 636 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338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опологающий вопрос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Что такое нетрадиционное рисова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облем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Какие способы нетрадиционного рисования существую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Как использовать их в работе с деть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С какой возрастной групп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Цель проект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Формирование интереса у студентов колледжа к использованию нетрадиционных способов рисования в практической деятельности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96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и проект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Формировать представления у студентов о нетрадиционных способах рисов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оказать практическое значение использования нетрадиционных способов рисов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Научить студентов использовать нетрадиционные способы рисования в своей практической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емы исследований участников проекта: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жно ли рисовать поролоно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жно ли рисовать картошк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жно ли рисовать мятой бумаг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жно ли рисовать мыльными пузыря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жно ли рисовать зубной щеткой?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боты, созданные студентам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укле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комендации для родит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рты последовательности рис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нспекты занят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улировки творческих заданий 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003640" y="836640"/>
            <a:ext cx="20671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лан работ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такое нетрадиционное рисование? значение нетрадиционного рисования (1-2 уро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Знакомство с нетрадиционными способами рисования в практической деятельности (8 уро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Работа студентов над творческими проектами (4 уро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Защита творческих проектов (2 уро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Посетите наш курс по нетрадиционным способам рисования!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А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жд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58920" y="3500280"/>
            <a:ext cx="30258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9:02:57Z</dcterms:created>
  <dc:creator>Студент</dc:creator>
  <dc:description/>
  <dc:language>en-US</dc:language>
  <cp:lastModifiedBy>Serg</cp:lastModifiedBy>
  <dcterms:modified xsi:type="dcterms:W3CDTF">2009-06-08T12:46:34Z</dcterms:modified>
  <cp:revision>7</cp:revision>
  <dc:subject/>
  <dc:title>НЕТРАДИЦИОННЫЕ СПОСОБЫ РИСОВАНИЯ</dc:title>
</cp:coreProperties>
</file>